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F68-CEE1-4A41-9EF3-01BA914D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705-9523-487A-9168-28067DC2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47A-528A-4632-BAA1-41B4F472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091-CE77-41FA-9A1E-5CE08329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37A3-F022-40B6-88B0-3A2F61F0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D7E5-675D-4EAF-B62F-D68F3D3B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7343-DE0B-43D3-A06D-3DDA6B6F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7897-966D-480A-95C2-89504D3B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F736-070D-4CF7-8288-CC9C2B1F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D0A7-D107-44D3-8FBE-4BB67625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EB50-76D6-481F-9CB4-45B88290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81B-B58C-4149-B1AF-DEDB28A5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C190-8BA7-467B-A555-FA8A0EB4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1E88-0EAA-4A98-9991-55C95B7D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BFDD-613F-4872-BEDF-FF5281AB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91B6-B7A8-421E-A2EE-C040C6AF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8613-557F-4875-A757-DA920228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DC9-1AA8-4336-BA77-C9C2EF0C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592-78E6-4309-927F-EC06E0D9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09F-8614-4E28-8347-C5DE5F34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2BC-028F-4DE0-8FD7-F5573BA2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766-894F-4ED9-8F37-495218AB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4BE-08A3-48B8-877A-DD07D434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7B8-0A37-4F25-A250-B5B9FB97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2318-2E41-48E3-9E99-8A2361291BFF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7657-80CD-4D0D-A883-7F041732D738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66680" y="990720"/>
            <a:ext cx="7010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楷体_GB2312"/>
              </a:rPr>
              <a:t>孔乙己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380988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鲁  迅</a:t>
            </a:r>
            <a:r>
              <a:rPr b="1" lang="zh-CN" sz="60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320" y="-152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  <a:ea typeface="黑体"/>
              </a:rPr>
              <a:t>孔乙己履历表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0666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280" y="533520"/>
          <a:ext cx="8839440" cy="6305400"/>
        </p:xfrm>
        <a:graphic>
          <a:graphicData uri="http://schemas.openxmlformats.org/drawingml/2006/table">
            <a:tbl>
              <a:tblPr/>
              <a:tblGrid>
                <a:gridCol w="1447920"/>
                <a:gridCol w="2743200"/>
                <a:gridCol w="1676520"/>
                <a:gridCol w="297180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姓孔名不祥绰号孔乙己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籍贯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鲁镇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五十多岁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出生年月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晚清（具体不祥）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学历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童生（未进学）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身体状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身材高大、被打致残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特长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写得一笔好字会茴字的四种写法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工作单位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家庭成员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主要工作成就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工作生活经历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主要社会关系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主要优点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不拖欠酒钱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,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有善良而且热心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主要缺点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好喝懒做偷东西迂腐死要面子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总体评价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Comic Sans MS"/>
                <a:ea typeface="黑体"/>
              </a:rPr>
              <a:t>主要社会关系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838080"/>
            <a:ext cx="83055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小伙计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——短暂的“师生”关系（可惜“学生”不认“老师”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掌　柜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——买卖关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短衣帮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——同为“站着喝酒”的“酒友”关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邻居小孩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——一同分吃茴香豆的关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丁举人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——同为读书人的关系，偷与被偷，被打与打的关系，“摔下来”了的可怜虫与“爬上去”了的胜利者之间的关系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咸亨酒店所有的人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——嘲笑与被嘲笑的关系 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763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黑体"/>
                <a:ea typeface="黑体"/>
              </a:rPr>
              <a:t>工作生活经历 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838080"/>
            <a:ext cx="86108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①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读过书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终于但没有进学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大半生考功名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②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替人家钞钞书，连人和书籍纸张笔砚一齐失踪（顺手牵羊）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③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偶然做些窃书的事，被吊打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④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常去咸酒店喝酒，受人嘲笑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⑤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分茴香豆给孩子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⑥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教小伙计识字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⑦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因偷丁举人家的东西，被丁举人打断了腿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⑧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用手走来喝酒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,(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笑声中出场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笑声中退场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用手走着退场</a:t>
            </a:r>
            <a:r>
              <a:rPr b="0" lang="zh-CN" sz="2800" spc="-1" strike="noStrike">
                <a:solidFill>
                  <a:srgbClr val="030305"/>
                </a:solidFill>
                <a:latin typeface="黑体"/>
                <a:ea typeface="楷体_GB2312"/>
              </a:rPr>
              <a:t>)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066680"/>
            <a:ext cx="3267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说一说，讲一讲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981080" y="2895480"/>
            <a:ext cx="5715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2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“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眼中的孔乙己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8380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华文隶书"/>
                <a:ea typeface="黑体"/>
              </a:rPr>
              <a:t>总评价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5750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是个热衷功名，轻视劳动，好吃懒做，死要面子，迂腐可笑而又有诚实善良一面的读书人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25750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孔乙己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名家点评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838080"/>
            <a:ext cx="845820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鲁  迅：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孔乙己是一个遭社会凉薄的苦人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叶圣陶：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潦倒、不幸的读书人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李欧梵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（美国，芝加哥大学教授）：历史转折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时期，落后于时代的，固守着过去价值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的被侮辱、被损害的读书人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刘再复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（美学家）：贫贱而悲惨的“多余人”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失去人的尊严与资格、被社会所耻的下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知识分子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钱理群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（北大教授，鲁迅研究专家）：值得同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情与焦虑的，有着悲剧性、荒谬性地位和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命运的知识分子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11430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黑体"/>
                <a:ea typeface="黑体"/>
              </a:rPr>
              <a:t>鲁迅对孔乙己的态度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47920" y="2819520"/>
            <a:ext cx="62481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楷体_GB2312"/>
              </a:rPr>
              <a:t>哀其不幸怒其不争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838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黑体"/>
                <a:ea typeface="黑体"/>
              </a:rPr>
              <a:t>思考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10666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9810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孔乙己这个人物形象在今天给我们什么启示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733920"/>
            <a:ext cx="3733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忌懒惰、要勤奋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忌不争、要上进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忌虚荣、要务实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8380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黑体"/>
                <a:ea typeface="黑体"/>
              </a:rPr>
              <a:t>作业思考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2209680"/>
            <a:ext cx="7010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⒈</a:t>
            </a: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造成孔乙己悲剧的原因是什么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⒉</a:t>
            </a: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孔乙己在笑声中出场，在笑声中退场。</a:t>
            </a:r>
            <a:r>
              <a:rPr b="0" lang="zh-CN" sz="3600" spc="-1" strike="noStrike">
                <a:solidFill>
                  <a:srgbClr val="030305"/>
                </a:solidFill>
                <a:latin typeface="Arial"/>
                <a:ea typeface="楷体_GB2312"/>
              </a:rPr>
              <a:t>如何理解各种人对孔乙己的取笑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295280" y="2057400"/>
            <a:ext cx="6858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谢谢大家</a:t>
            </a: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,</a:t>
            </a:r>
            <a:r>
              <a:rPr b="0" lang="zh-CN" sz="4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再见</a:t>
            </a: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!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47920" y="2133720"/>
            <a:ext cx="6914880" cy="24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结合图片说说本文写了</a:t>
            </a:r>
            <a:endParaRPr b="1" lang="en-US" sz="4000" spc="1" strike="noStrike">
              <a:ln w="381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孔乙己的哪些生活片断</a:t>
            </a:r>
            <a:endParaRPr b="1" lang="en-US" sz="4000" spc="1" strike="noStrike">
              <a:ln w="381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92000" y="260280"/>
            <a:ext cx="5227920" cy="6292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18440" y="304920"/>
            <a:ext cx="1277640" cy="6172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Times New Roman"/>
                <a:ea typeface="黑体"/>
              </a:rPr>
              <a:t>酒客揭短，取笑孔乙己偷东西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43080" cy="4390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4032360" cy="4390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76520" y="5257800"/>
            <a:ext cx="571500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Times New Roman"/>
                <a:ea typeface="黑体"/>
              </a:rPr>
              <a:t>酒客嘲笑孔乙己没有“进学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8000" y="144360"/>
            <a:ext cx="4184640" cy="5037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142920"/>
            <a:ext cx="4184640" cy="5038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5607000"/>
            <a:ext cx="449568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305"/>
                </a:solidFill>
                <a:latin typeface="Times New Roman"/>
                <a:ea typeface="黑体"/>
              </a:rPr>
              <a:t>孔乙己教小伙计识字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6840" y="0"/>
            <a:ext cx="4052880" cy="4876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0"/>
            <a:ext cx="4050000" cy="4876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5334120"/>
            <a:ext cx="464832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分茴香给孩子们吃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00120" y="76320"/>
            <a:ext cx="4138560" cy="662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19600" y="304920"/>
            <a:ext cx="729000" cy="5715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Times New Roman"/>
                <a:ea typeface="黑体"/>
              </a:rPr>
              <a:t>孔乙己最后一次到酒店喝酒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9144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280" y="762120"/>
          <a:ext cx="8763120" cy="5871960"/>
        </p:xfrm>
        <a:graphic>
          <a:graphicData uri="http://schemas.openxmlformats.org/drawingml/2006/table">
            <a:tbl>
              <a:tblPr/>
              <a:tblGrid>
                <a:gridCol w="1812960"/>
                <a:gridCol w="2417760"/>
                <a:gridCol w="1887480"/>
                <a:gridCol w="264492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籍贯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年龄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出生年月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学历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身体状况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特长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工作单位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家庭成员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主要社会关系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工作生活经历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主要工作成就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主要优点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主要缺点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30305"/>
                          </a:solidFill>
                          <a:latin typeface="Times New Roman"/>
                          <a:ea typeface="楷体_GB2312"/>
                        </a:rPr>
                        <a:t>总体评价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0" y="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  <a:ea typeface="黑体"/>
              </a:rPr>
              <a:t>孔乙己履历表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7632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黑体"/>
                <a:ea typeface="黑体"/>
              </a:rPr>
              <a:t>填表说明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846000"/>
            <a:ext cx="8610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⒈</a:t>
            </a: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社会关系——是指小说中与孔乙己发生联系的人物。（注明关系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生活关系——是指小说中孔乙己做过的一些事，表达准确清楚，可根据课文语言，也可自己概括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⒉</a:t>
            </a: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注意将课文中有关孔乙己的信息都要罗列显示出来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⒊</a:t>
            </a:r>
            <a:r>
              <a:rPr b="0" lang="zh-CN" sz="3600" spc="-1" strike="noStrike">
                <a:solidFill>
                  <a:srgbClr val="030305"/>
                </a:solidFill>
                <a:latin typeface="楷体_GB2312"/>
                <a:ea typeface="楷体_GB2312"/>
              </a:rPr>
              <a:t>要想又快又好地填表，小组内一定要讲究分工合作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2:03:44Z</dcterms:created>
  <dc:creator>101010</dc:creator>
  <dc:description/>
  <dc:language>en-US</dc:language>
  <cp:lastModifiedBy>User</cp:lastModifiedBy>
  <dcterms:modified xsi:type="dcterms:W3CDTF">2014-10-13T11:08:07Z</dcterms:modified>
  <cp:revision>38</cp:revision>
  <dc:subject/>
  <dc:title>PowerPoint 演示文稿</dc:title>
</cp:coreProperties>
</file>